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307-2D58-49C6-8366-704A28EF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2AE-EF10-45D4-8425-CB48512E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9FBC4-A872-4990-93E0-E220B7AA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26F8F-E28E-475D-9357-CC24798B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6D1A8-6CC0-437C-9BBD-0F382534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43CF6-4C7B-4E41-9C74-744F0AB9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67E11-7345-4398-8409-1FBB7E7A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52133-E259-492E-B50B-1369C1A8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B59F4-89B6-44A1-818B-C2BC759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14604-EC43-4D7D-954D-33B7837C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B3B5E-2FD9-4E70-8650-74BEE2EB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A8BF1-3E7A-4F12-9269-40CACBA6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AD1-1F90-4768-A767-B1F512B4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7C5F0-8F2C-4687-AAF6-42253A91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739B2-E503-4594-A814-24656D8A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E96F0-E78A-41DF-A87A-A7446B06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4D24E-F6D4-4953-924F-673D8519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85947-9A89-4D05-AF7B-2FB8D4EB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752D6-795A-4EBE-A574-8FD72FB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0838A-A0B1-47DE-8C5C-36C4DD45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AC523-AF0F-41DB-B433-6EA9C52E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C0932-F94A-4A75-93F8-FCCBBED8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72794-AE57-408C-B1A0-7D04DEC1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76E-5FF9-4FDE-8A3E-08A4C9D1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1DD16-66C4-4965-905D-26AAC716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AD5B4-44C2-471B-A2A5-B625FB6F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0989F-ED48-484F-940F-671D2DEA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F642C-A0C7-4280-B6C8-4757301D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92D85-1FAF-4F8D-8D87-10194EFD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FB913-8EE9-4EE0-81A5-4CD0062C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5E0F2-024A-4237-A0F5-A3455EF9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B3255-ED49-469F-BF66-E52A9AED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B3BD5-BB86-465F-9C40-60805C4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3F77A-BFE7-4FB1-9E27-29B8D43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341C-E5A9-46CD-846B-F9A4B023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E0143-6697-42C9-81B8-F6D0266B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CCE98-4E93-49D4-949B-2A78F480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70D10-14F4-43C5-ABE2-D193DCB9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B016D-609E-4747-B74F-DA7B3C7A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16118-826A-41B8-9EDD-E608E2C6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5E7C0-4D75-42E4-94BC-EB1BB24E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CFFEB-A3A3-4646-8433-A3E6A161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BFDCB-FD81-4710-9731-E918DE2D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0C239-6716-4178-80FC-879638E0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C70DA-4112-4DFB-ABC5-2C7F4ED6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41D4-C9AC-489A-87A9-36737E4F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E314F-7027-423E-8381-731AC2CF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DD000-27C8-4027-9085-E2D3E21F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E0B1B-C44E-4D7E-87EA-FCE2BB72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74199-CF37-42C8-ACBC-72AB882D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C89E6-96DC-4755-AAEA-DB63DECB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20264-39E8-468C-A0BF-4070C3C2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E2361-E579-4041-9E38-1E043D2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B0261-A639-4AD8-8689-F7E4E787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67334-2D82-46BB-8844-21E9D3ED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E275E-A6CE-40E2-B6DA-8F1142CA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23D1-92F6-48A7-9114-E87340A5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06647-64D6-4C55-98B2-2720564C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27381-D6E8-401B-AC15-A185466A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5EFFD-2846-48E8-9C03-883BD704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CCC5F-8930-4768-8A6E-02FF6FD6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781AC-3CEA-4671-AEDF-44FD993E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B0631-D71B-48B7-AC3C-5CBB08A8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AEB49-22EF-404A-A953-663DBC3B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28513-CE7F-462D-91C7-B44F3746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71BAF-9EC0-4309-B2DE-C3C14AD2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8519A-CB2E-4993-B957-3727FCA3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C57F-5AC0-4CA9-A3AC-1C4AB024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4ED54-55F7-43B1-8612-735CDF20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42B751-3B32-471D-93DB-79C8D6E3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E9885-2A3E-4B08-9030-0BAB41BD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B6B38-DFFC-472A-B8A2-FCC17F3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E95C6-F190-4EA3-8F3B-20847941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612C0-43F4-477D-8AC8-8A33603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867E9-6523-438A-B00C-DA5A2881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81AC6-1AF6-4BC1-B635-B6B8EE89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34272-A8F9-4556-B39A-880F8FF7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E528B-E2C7-4E8F-9828-348D7074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732C-514B-4E00-A42E-9B041DF8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A63E48-3003-46A7-ACF4-652C8F9F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89E45-26D7-430E-9524-F4A44C5F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ECDC6-6129-4AA3-9FED-ECC84B88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03FF3-32C7-494D-B408-AB830A56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C3A78-7EB8-44A1-A765-82047B49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A3466-6793-4C8B-9806-8A48162D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2F22D-8752-444B-85D6-4B6CAA2A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131C6-93D5-4BE9-9FF7-19389F8E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3B1C7-9F9C-408D-8C10-F28B64C9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CABD7-A6B4-489B-A485-1133AD4C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368C-F429-40A9-B020-85C4A6D4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79D92-3675-4DE5-89C6-E64C32E8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80EF9-3C48-42F9-80BD-FE8E3462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9449E-66F8-44FD-A4E4-1785D690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F1E62E-BFEE-47D2-B4F5-A10C9557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162E7-D798-4655-944B-C539C299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590E8-05EB-4ACB-B675-2CFA9B19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E4C2D-4150-45BE-9131-E0647C2B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2F391-035A-4FB8-8E36-57122E4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C1CEC-FB14-41CE-A66B-1B6F7DCF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622EB-3CFA-44AD-A466-A44DDD5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7C06-4754-4122-97CD-529583C3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61C21-3508-4248-85EE-CEC1D9C5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3B4EA-67BB-4CDB-A675-3DCD9A7E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C259C-9644-41B8-9090-59765FF0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8E509-1C3F-40CE-AF65-3E84EDF1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94C1D-C719-4AED-85F8-B146E8B1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5559B-3976-4005-8C6E-1974C605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86AF5-180C-4AB8-942D-EEC7290B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4014B-C4E2-4777-B938-AC23B61A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8C428A-EB14-4289-BE51-28C8140D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92027-BEED-47FC-AC53-ACA205B2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8EF-FD9A-4A8C-A261-BCE8E355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E596-DC9E-487B-9752-16B227BA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001BA1-B670-4CB5-9AA2-361DBA19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4F5D1-2C14-46FE-9630-C7672E71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8FBBF-C5D3-4FAE-93C6-24A1BEAD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ED476-7F42-4C17-B337-51A99627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973DDC-ECC0-4F95-B503-3533FC65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27E1B-2FEC-4344-9AB0-F9E1B0EF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EE4F31-0263-4039-8349-B328C7BD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6A587E-A91A-46E7-8D95-44EE3AA7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7700B-C740-48FB-857A-77C3E8AE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C11245-F375-412F-9253-3E21B0E0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4A12-08B3-42EC-988E-9F90D852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8D0914-F44B-4577-9CB8-18C9735A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D305C7-1622-461A-936A-B9DAAB0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C481F5-8AE1-419E-B77D-2542BAF9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9356A-AD2E-4860-B5C5-A3444F4C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5B8C06-3D0D-4F9A-A042-C6C71C8E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2928C-46D1-4B80-9B6B-3EED4B97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CE93A-5C39-4C33-8F87-0C2EFAFB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82DD0D-F25E-493D-8AA6-0649B938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FE3F0-9D1F-4587-BCF2-F3BCF059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0E6B04-1A3B-413F-9304-076DFF09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BEC7-8E2F-4A94-A593-3789A143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E3DCDE-8021-400F-BFCD-843C73D6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3C166-7F9F-432C-8366-730380AC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436E53-904D-4249-85D9-A10304D7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8749D-6853-4ADD-84B1-45003679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D3A9B2-1557-46E8-8551-B7BFCE56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E9B9A1-01F0-4F10-8302-0D48EE6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B2566-40CA-47C5-848B-F57195A7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D17471-5052-4B7C-B362-39EA9BCB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32903-852C-43F8-B676-FEA77637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12D63D-0D8F-427B-8F27-1DB42819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4BF5-59C6-42B9-A302-8A04DE9C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236D3-5E95-4E5D-9D8C-8D5121DD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3B7494-0815-4DB9-890A-D95F1003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6C2AAE-7AE0-4261-90F4-1D5549EA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F66C9-AF67-4F54-A5D2-D45B86BF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A09AB0-1C6F-4BE3-8E17-4B50EA31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0C5598-D44C-4835-AE4E-50C8BF49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061995-6511-4D38-9E61-FB7201CF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C1F11-4B0A-4733-9355-893DD643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260FD-2A75-4750-BD85-AEF3A502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F7E87D-0E18-4586-BEE0-058E018F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B816-B24B-4465-A9E6-E34F8E0E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93FAF-DC3B-43FD-A084-90E3C85E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8D20E1-D56C-44CF-8388-C538432F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1398A2-1AA7-4F5C-B801-06E7D5C8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E178AD-7CF9-484A-8A5E-8D38C1F2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E19858-758F-4F6D-B2B8-2FE8135B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8348F5-5F5B-4A73-B181-5AC2C200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549EF7-B376-4D5F-B253-5D49E5C7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88CF7C-CA83-4C0F-8677-4744B7D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CBF57-BA82-40B3-BED6-3910D700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4ED37-3165-4418-B30B-FF59C67B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2CF0C-0C68-4EB4-A7AF-7E176C10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99DE65-3829-41DE-B88F-0F572CE7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3E3B2-838A-4285-9C29-6AC82A9E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AAB64-22C6-41FF-8041-12E35265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6623C-2AB8-4118-8651-25E0C40D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9A04E-D6C5-4BFC-9568-4BCF2DC4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2C20B-84EC-44A5-B1E4-C3058E7D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DB5B-3856-4F53-AE4B-F45A007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805-AD14-4866-9173-D268DA1B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4C2E-8E8F-4517-B175-D927A85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AE30-6E1E-458E-BAF2-C0860557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3680-CD1A-47E6-9836-902FA19E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53F8-89C7-48FD-AEF6-4BC1926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3212-707F-4D22-BBED-A757899A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EA59-9398-44BE-BA0E-FE66368F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0BC72-4457-49EC-A0BA-3C9924AF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01129-A9D8-4552-BB20-A185EAA5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C231-9728-482B-8CFC-51B19917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F52BB-B9DB-41AA-B7AA-B31C87B9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19D-BB81-460C-82CF-26BEDF04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420CE-0692-4175-B5E2-ABC01247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41A81-2358-405F-9F53-5864C994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0D1D-70AB-4ECA-98E8-1BD5C791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65B6F-B2F7-405B-9C9E-5D6FA50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262A5-C79A-4617-B664-FE2BC04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6465-F8DB-4390-93DF-2F1E0010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E370-B69D-4284-B0DE-CC1E450B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9143-C2CB-403C-A825-FF3C7719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9E1C0-9FB9-423A-A4E7-8AEC3F0F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84A2B-DBFC-43DC-A737-FD3D674F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8D4-D458-4708-9C36-E2243A08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1EF77-07A3-4CEB-AA39-3A7339DB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2F640-B430-4FD3-AD12-2416AE27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6CB9C-FD4E-4D85-AAC9-77A2F016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99E24-50D8-4C71-BC70-09E28BB4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810A9-6FDF-44E2-9860-7EBD96D4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7994F-8FA1-47A8-8158-1F99A58E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98EB0-FBAA-400B-8E6F-84D0C211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E88D-96D2-4F07-9C37-2F07C5D3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9D07E-67F5-46EA-BCC6-11F8085C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1815D-9283-466F-9207-5CABC1F7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57F-9DBA-412D-A1E2-2C432F67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DDA01-D3FB-4783-B864-332A7F2A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E6187-ABE6-4165-B0CC-B26BE7D9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7A25D-ADDA-47BB-B710-F847AF21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B6822-51FA-46E9-AE73-5A1697E9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49269-4F2D-46D2-B9CD-8F27C746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744EE-07AB-457B-B619-245DA80D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78061-554B-4E9B-9F35-94EE0F8A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A948F-FDF9-40E4-93EF-F6EF4DDF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7BB9C-6B90-4DB7-BA43-D5D951AA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B91A2-A1ED-4F80-A9C1-A420C947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657-7E22-48AD-8779-9C1B395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2B74D-A433-447D-8FDA-EA001CAA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01E0C-0EA4-4C71-9FD7-64ADDCE3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D6688-1918-42A5-AB97-A2F8A9AF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7048-C48A-484C-AB53-7CDDF9D4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26C19-F935-4F32-A3D2-920A0EDB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B8F7C-1BBB-4FB5-AE20-4C9CC294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D283-4A0A-4976-8070-BB6DEA79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0EBA-857E-4183-9299-674379F0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AB316-A8A5-4DAD-8891-24869599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9B796-D961-4DEA-BCD2-E7189970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C90-46DC-49B6-B69F-8E9EF127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A0622-FB17-4865-BD03-CF7BE8FA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04D8C-4F58-433B-B14F-035D5CB6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F1742-A473-466D-B30C-58FF61FC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26C42-BDDA-4403-B747-7418D0D9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4A5F7-2F09-4F22-9771-6229C831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450BA-9833-4D8A-8CB6-33B5EBBC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1C397-2C4C-44ED-AD1A-B806023D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B96EB-8FFA-4216-8262-74B400CF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112AC-6777-4AC8-8029-4258EAFC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A27B2-B388-4EEF-BB52-44069D64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DEF-C964-4CD2-9A88-70AB414C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34328-8481-4707-AE74-281A5A26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66214-3DFC-4E72-8F4E-978DD9EF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E666B-DE79-4D50-93FA-5C820246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7F923-9FB1-44BD-B46C-5F62731D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9E8C5-F5B9-4F24-AEBC-AF9B0A2A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98E0B-93D8-4E66-8DF7-8C36D987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1A4B9-BD84-426D-8938-B2FD2323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9ACC9-271F-4484-BA85-B021C928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A00EA-A70D-4A14-AAD2-A43A1C2B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14366-7415-4502-B737-E6ACC14A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0E2B-894F-4820-B751-E5A714D5FA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FAFC-03B6-41D1-A128-D82F9231A2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47BD-1D35-4014-B7AC-CE90FE59A5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7A85-6F90-4552-ACE3-2780DD332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920C-DF9F-4D68-95A6-DC3DBA63B0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68CB-DE4C-4443-B35B-0728B8CB22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274D-DC91-4376-A6F5-436A3CF10F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C6A2-B485-4E3C-B5EE-696B336D9C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0963-45E9-4B3B-B8E8-C01EA896F3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4773-0161-45D2-8D7D-B194C5EBDD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3CDF-7CC5-42F9-B21F-BB81DA169A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BFF8-E97D-48CD-BF35-7D3F1B255B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0B89-0330-42AD-8B41-4DA31847AB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2FFA-E3D4-43E5-9A49-3E5BB80D46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45FE-662C-4D89-9537-3C077A19BB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6822-AB10-48BD-8EB8-24AB60D3CB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9415-745E-44E2-87D9-64B6CC8543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402A-FE9E-40E0-9150-451193BF1B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AC33-BC59-4EC7-8561-CDBD304922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C2AA-67FA-4F42-A89D-F354B7B182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318B-A815-4EE0-894E-9BF455FD57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FCBF-90D7-464A-BC6C-4638EE1FC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D932-EB36-47F8-BE53-B649688593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F065-4C2D-4240-8DDD-109A59D39D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90E7-9829-4799-B3FD-274BA2741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ED13-1C77-4EF7-AFDD-DD2E5009E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77D1-99F8-484B-80E0-8028351BD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9D98-EC10-40FF-A472-FA9A00699B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3101-F6AA-40F2-A21A-ABAAB7644D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5736-ECEC-465D-B29E-A53EC485CD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0E33-2EEB-437E-9395-ADE1B74FB5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2B67-4632-4E7E-AD39-7EE5E057F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E8E7-C63A-4AC6-B0AF-AB152E0A4C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2361-6E3D-48AD-BABB-A4BA487D8B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6705-3607-4428-B660-2341EB27C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F0FD-21A0-45B5-9658-07BDEFDD00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0DF0-17F8-467F-8EBB-D4AFFEADA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4285-CEF3-4292-A16F-0BCA625247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4C6E-081F-4824-AC98-DA46D057FA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B0D3-B77B-404E-94A2-3E11AAB70A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28920" y="2060640"/>
            <a:ext cx="2486160" cy="8190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47680" y="3684600"/>
            <a:ext cx="8648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590400" y="1819440"/>
            <a:ext cx="7963200" cy="32191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4067280" y="279576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067280" y="4437000"/>
            <a:ext cx="345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8609" descr=""/>
          <p:cNvPicPr/>
          <p:nvPr/>
        </p:nvPicPr>
        <p:blipFill>
          <a:blip r:embed="rId1"/>
          <a:stretch/>
        </p:blipFill>
        <p:spPr>
          <a:xfrm>
            <a:off x="299880" y="1690560"/>
            <a:ext cx="8544240" cy="34768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900000" y="384480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626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7585" descr=""/>
          <p:cNvPicPr/>
          <p:nvPr/>
        </p:nvPicPr>
        <p:blipFill>
          <a:blip r:embed="rId1"/>
          <a:stretch/>
        </p:blipFill>
        <p:spPr>
          <a:xfrm>
            <a:off x="933480" y="1052640"/>
            <a:ext cx="7277040" cy="222876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67586" descr=""/>
          <p:cNvPicPr/>
          <p:nvPr/>
        </p:nvPicPr>
        <p:blipFill>
          <a:blip r:embed="rId2"/>
          <a:stretch/>
        </p:blipFill>
        <p:spPr>
          <a:xfrm>
            <a:off x="404640" y="3695760"/>
            <a:ext cx="8334720" cy="2181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4327560" y="1685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415440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7093080" y="167148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709308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2124000" y="429264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2124000" y="4869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5076720" y="429264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0"/>
          <a:stretch/>
        </p:blipFill>
        <p:spPr>
          <a:xfrm>
            <a:off x="5292720" y="4869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1"/>
          <a:stretch/>
        </p:blipFill>
        <p:spPr>
          <a:xfrm>
            <a:off x="8028000" y="42354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2"/>
          <a:stretch/>
        </p:blipFill>
        <p:spPr>
          <a:xfrm>
            <a:off x="7885080" y="492768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95280" y="809640"/>
            <a:ext cx="8353440" cy="5715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411280" y="37512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531120" y="37450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897520" y="5661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00120" y="1509840"/>
            <a:ext cx="7943760" cy="3838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2325600" y="184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6113520" y="184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349960" y="29098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2973240" y="3386160"/>
            <a:ext cx="735120" cy="3841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2987640" y="3789360"/>
            <a:ext cx="735120" cy="3841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5003640" y="4221000"/>
            <a:ext cx="73512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309600" y="1257480"/>
            <a:ext cx="8524800" cy="4343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2541600" y="2565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6746760" y="2565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2397240" y="37018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6588000" y="370188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2584440" y="4811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7"/>
          <a:stretch/>
        </p:blipFill>
        <p:spPr>
          <a:xfrm>
            <a:off x="6602400" y="48261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728640" y="1976400"/>
            <a:ext cx="7686720" cy="29052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258920" y="4076640"/>
            <a:ext cx="698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519120" y="2119320"/>
            <a:ext cx="8105760" cy="2619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042920" y="4264200"/>
            <a:ext cx="7705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314280" y="61920"/>
            <a:ext cx="8515440" cy="6734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7093080" y="3514680"/>
            <a:ext cx="158256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7093080" y="4365720"/>
            <a:ext cx="158256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7121520" y="5229360"/>
            <a:ext cx="158292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121520" y="6093000"/>
            <a:ext cx="158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638280" y="2790720"/>
            <a:ext cx="7867440" cy="1276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5148360" y="2867040"/>
            <a:ext cx="273672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3059280" y="3530520"/>
            <a:ext cx="266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52360" y="762120"/>
            <a:ext cx="8639280" cy="53337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4356000" y="384480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4356000" y="5516640"/>
            <a:ext cx="266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2:5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